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09A1-2454-4EFF-984D-975040DCF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011E-062A-4AF8-8BA3-C5D2728A0AA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FF30-54AC-4E4D-968E-D6254C6CC77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0DF8-A0F1-440A-BC92-5F63E6B3764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900-8B61-4F60-A2C6-A017D1AFF52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FF66-3768-4498-A8E9-1BDD95123E5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DF5E-6611-4278-97BD-8CA11097A6E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DE9F-1DD4-4CD2-8DC4-488679F3F41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4A6D-57F1-4732-B7A5-75CCE0C1B5C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F0A8-2B00-4897-BCC6-5B522084199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863C-470D-4BA6-90EF-E3C2467B875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714C-F3C5-489D-BDD3-21E17212BD7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8A7B-F034-4E1F-8C46-73E99090C51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4DBF-B256-404E-9818-9B12A8B2C23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EFA0-FBDF-4EDC-8F46-548FFB17A77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9C12-9CDF-4740-B7FA-463BBC3EFCA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9CDF-8F2A-427B-917C-6B49295B60C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1255-E3DF-43E4-A21E-C810D034804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F4BF-47D2-4C4E-9825-934065309B8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76E7-6CE3-4EE2-921B-C0563CB82A3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urriculumcentral.its.hawaii.edu:8080/central/core/cas.js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urriculum Central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Kapi‘olani Community College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University of Hawai‘i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97496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Look at what’s ther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6705360" cy="32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d703b"/>
                </a:solidFill>
                <a:uFillTx/>
                <a:latin typeface="Microsoft Sans Serif"/>
                <a:hlinkClick r:id="rId1"/>
              </a:rPr>
              <a:t>http://curriculumcentral.its.hawaii.edu:8080/central/core/cas.jsp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Email Aler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8" name="Picture 2" descr="C:\Users\Dik\Downloads\email_message.tiff"/>
          <p:cNvPicPr/>
          <p:nvPr/>
        </p:nvPicPr>
        <p:blipFill>
          <a:blip r:embed="rId1"/>
          <a:stretch/>
        </p:blipFill>
        <p:spPr>
          <a:xfrm>
            <a:off x="2448000" y="2924280"/>
            <a:ext cx="4400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Login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0" name="Picture 2" descr="C:\Users\Dik\Downloads\CC_login.tiff"/>
          <p:cNvPicPr/>
          <p:nvPr/>
        </p:nvPicPr>
        <p:blipFill>
          <a:blip r:embed="rId1"/>
          <a:stretch/>
        </p:blipFill>
        <p:spPr>
          <a:xfrm>
            <a:off x="2014560" y="2352600"/>
            <a:ext cx="5267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Dik\Downloads\CC_UH_login.tiff"/>
          <p:cNvPicPr/>
          <p:nvPr/>
        </p:nvPicPr>
        <p:blipFill>
          <a:blip r:embed="rId2"/>
          <a:stretch/>
        </p:blipFill>
        <p:spPr>
          <a:xfrm>
            <a:off x="1360440" y="2133720"/>
            <a:ext cx="6575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4538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Dik\Downloads\MyTasks_sample.png"/>
          <p:cNvPicPr/>
          <p:nvPr/>
        </p:nvPicPr>
        <p:blipFill>
          <a:blip r:embed="rId2"/>
          <a:stretch/>
        </p:blipFill>
        <p:spPr>
          <a:xfrm>
            <a:off x="1886040" y="1214280"/>
            <a:ext cx="5371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Dik\Downloads\MyTasks_demo.tiff"/>
          <p:cNvPicPr/>
          <p:nvPr/>
        </p:nvPicPr>
        <p:blipFill>
          <a:blip r:embed="rId2"/>
          <a:stretch/>
        </p:blipFill>
        <p:spPr>
          <a:xfrm>
            <a:off x="581040" y="1738440"/>
            <a:ext cx="79819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Dik\Downloads\CC_Review.tiff"/>
          <p:cNvPicPr/>
          <p:nvPr/>
        </p:nvPicPr>
        <p:blipFill>
          <a:blip r:embed="rId2"/>
          <a:stretch/>
        </p:blipFill>
        <p:spPr>
          <a:xfrm>
            <a:off x="785880" y="547560"/>
            <a:ext cx="75722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Be Careful …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Central is not perfec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rustration gets you nowhere fas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Patience is needed and appreciated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ake it one step at a time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eep moving forward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Peer into Your Crystal Ball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URRICULUM CENTRAL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FRIDAY WORKSHOPS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NOV. 18 AND DEC. 2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1:00 – 4:30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MAMANE 101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OME WHENEVER YOU WANT, STAY AS LONG AS YOU WANT (UP UNTIL 4:30!!!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MAHALO!!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is it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designed to be the official archive and repository for curricular actions and information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is it designed to do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Provide transparency to the 10 campus courses and program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Allow you to see any course @ any campus @ any time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can it do right now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a source for: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he catalog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Course content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ranscript evaluatio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Official course informatio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o is using it right now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in use or in development at 6 out of 10 UH campuse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At KapCC, Curriculum Central is in use for course review, revision, and curriculum approval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’s in it for You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rystal ball information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uide students more accurately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Be more akamai about upcoming curricular activities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rve as a student advocate in the review process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Your Role in Review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Get involved at the ground level of course outline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now what’s coming for the student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now what changes are going to be made and when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Review Process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9" name="Diagram 4" descr=""/>
          <p:cNvPicPr/>
          <p:nvPr/>
        </p:nvPicPr>
        <p:blipFill>
          <a:blip r:embed="rId1"/>
          <a:stretch/>
        </p:blipFill>
        <p:spPr>
          <a:xfrm>
            <a:off x="146160" y="1596960"/>
            <a:ext cx="833256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Approval Proces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603360" y="2054160"/>
            <a:ext cx="7327800" cy="4280040"/>
          </a:xfrm>
          <a:prstGeom prst="rect">
            <a:avLst/>
          </a:prstGeom>
          <a:ln w="0">
            <a:noFill/>
          </a:ln>
        </p:spPr>
      </p:pic>
      <p:sp>
        <p:nvSpPr>
          <p:cNvPr id="102" name="Flowchart: Alternate Process 4"/>
          <p:cNvSpPr/>
          <p:nvPr/>
        </p:nvSpPr>
        <p:spPr>
          <a:xfrm>
            <a:off x="1219320" y="4038480"/>
            <a:ext cx="380880" cy="381240"/>
          </a:xfrm>
          <a:prstGeom prst="flowChartAlternateProcess">
            <a:avLst/>
          </a:prstGeom>
          <a:gradFill rotWithShape="0">
            <a:gsLst>
              <a:gs pos="0">
                <a:srgbClr val="d6cac2"/>
              </a:gs>
              <a:gs pos="100000">
                <a:srgbClr val="64371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"/>
              </a:rPr>
              <a:t>MKC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Down Arrow 5"/>
          <p:cNvSpPr/>
          <p:nvPr/>
        </p:nvSpPr>
        <p:spPr>
          <a:xfrm>
            <a:off x="1295280" y="3048120"/>
            <a:ext cx="152640" cy="914400"/>
          </a:xfrm>
          <a:prstGeom prst="downArrow">
            <a:avLst>
              <a:gd name="adj1" fmla="val 50000"/>
              <a:gd name="adj2" fmla="val 49921"/>
            </a:avLst>
          </a:prstGeom>
          <a:gradFill rotWithShape="0">
            <a:gsLst>
              <a:gs pos="0">
                <a:srgbClr val="d6cac2"/>
              </a:gs>
              <a:gs pos="100000">
                <a:srgbClr val="64371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0:40:47Z</dcterms:created>
  <dc:creator>Dik</dc:creator>
  <dc:description/>
  <dc:language>en-US</dc:language>
  <cp:lastModifiedBy>Dik</cp:lastModifiedBy>
  <dcterms:modified xsi:type="dcterms:W3CDTF">2011-11-16T01:26:09Z</dcterms:modified>
  <cp:revision>16</cp:revision>
  <dc:subject/>
  <dc:title>Name of presentation</dc:title>
</cp:coreProperties>
</file>